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D51-2C52-4494-B2A9-2A8425E5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49F-F77E-45F7-836C-D433307B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BF5-B25C-4B35-83B2-C264ED53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FE7-99CD-48F7-A256-B0BAEA57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1DF-28F7-4F04-A515-5B44A065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4D2-D190-4D90-A226-615FC5D8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D97-92C7-40B7-B248-6A7258A0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D80-3797-4409-AB9F-D85590B8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6AA-74F9-4547-B9C7-9C901E8A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755-938D-4C96-9C74-E0642740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807-E522-462F-81BC-1691228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3E8-73F0-4D47-A7B1-B32AD07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S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DC14-9E99-4914-B79A-5B4316E98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10280" y="52848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MOD 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Ca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OD Coori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ear many h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mon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list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desk (ie, answering support requ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“should” b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ings work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ftware is stand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core apps interact directl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this be good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al formal vett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ly, require interoperabilit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chema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on gmod-schema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, no v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focus--genome feature vis &amp;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tive genomics/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web brow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GMOD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50 orgs (using core a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ad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ciu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D-Princ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evelop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nstallation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 clustering tools (including anything that needs to go into Ch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type and phylogeny schema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ow to attract use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-in from funding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 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GMOD side, having good documentation 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acting Evolutionary Biolog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GMOD meeting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what mee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chema modules and apps do we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2:26:49Z</dcterms:created>
  <dc:creator>Scott Cain</dc:creator>
  <dc:description/>
  <dc:language>en-US</dc:language>
  <cp:lastModifiedBy>Scott Cain</cp:lastModifiedBy>
  <cp:lastPrinted>1904-01-01T00:00:00Z</cp:lastPrinted>
  <dcterms:modified xsi:type="dcterms:W3CDTF">2006-01-20T13:29:33Z</dcterms:modified>
  <cp:revision>18</cp:revision>
  <dc:subject/>
  <dc:title>GMOD Administrivia</dc:title>
</cp:coreProperties>
</file>